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0D5-0D71-430D-98B8-9BBA2C5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F20-01F4-4E64-AAE4-FB54E563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304-3352-4FE6-974A-C8135482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5B4-3B07-45B8-9CAC-709BC291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415-B732-49E1-93DD-44A4B8EC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59D-84E0-4863-B641-4E7C88A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AF25-133F-4558-B1E3-E59AC8B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2720-E0B6-411E-9282-9333618E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866-D41E-4BCA-A6DB-6CBD505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7C45-EDF4-4B0F-B8EC-B33246F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8137-BECE-41F4-898F-670DD06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2DE-6F5B-4146-A4B6-0E536F4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1B75-2944-437F-BA30-42779E2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316E-183B-4963-8A90-D93D3A1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C30-ABA0-4A44-AF94-9126BFB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16FC-26E6-4AF7-B537-1E280364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8B00-986F-4775-AFE8-06A9EB8D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893-5792-4885-8281-6764C26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074-F002-4EBB-AEEF-4876FDA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ED2-F63D-4D30-9B2C-161E415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665-6766-4CF8-B27C-02CF882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D67-90CB-4A86-AFA9-94BB2D2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280-A427-4720-A605-0E283FA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80A-13FD-4749-93CC-2C64E31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3C7E-6C24-42E6-891F-95B6998280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D9D-EB85-4248-BC2B-7AD80C9BB2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00400" y="3581280"/>
            <a:ext cx="2819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elsey Littlet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819520"/>
            <a:ext cx="685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University of Alabam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I Chose Ala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1337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44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They have a nice campu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819520"/>
            <a:ext cx="5791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They offer good education and teach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y provide the career that I would like to pur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- This university is close to where I l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’m also an Alabama F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5562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- Good Interior Design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bama vs. Aubur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676520"/>
          <a:ext cx="46054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6054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267080" y="3778200"/>
          <a:ext cx="4876920" cy="307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78200"/>
                    <a:ext cx="48769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724280" y="1752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labama requires a higher GPA score than Aub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6668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uburn requires a higher ACT score than Alab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05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labama’s cost of items while attending college, is a little bit more than Auburn’s cost of i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1066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arison Ch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523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bama’s Camp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52880" y="1447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picture to the left is a photo of the Bryant Conference Ce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8763120" cy="2133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48320" y="33526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other picture of the university’s cam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7543800" y="3276360"/>
            <a:ext cx="1219320" cy="106668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00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720" y="25909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20876400">
            <a:off x="304560" y="304920"/>
            <a:ext cx="2200320" cy="1730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7621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Timeline and History of The University of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6668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50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9718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831 - The university was opened and 52 students enrolled that ye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666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343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09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51 – total university enrollment: 126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6668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971800" y="4952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4956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892 – first football team was assembled, called the “Thin Red Line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666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8195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11 – total university enrollment: 571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666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3657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657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51814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56 – the university’s first African American student was admit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26668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486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8 – the first computer based program was establish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52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onclus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s you can see, I have chosen many reasons why I want to attend this fine school. In my opinion, I think it fits me very well. I hope in the future, I will be able to attend The University of Alab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863800">
            <a:off x="304920" y="5105520"/>
            <a:ext cx="1366560" cy="1523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810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nk Yo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1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Kel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781200">
            <a:off x="7314840" y="5105520"/>
            <a:ext cx="1536840" cy="147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3048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8:18:46Z</dcterms:created>
  <dc:creator>fhsstudent</dc:creator>
  <dc:description/>
  <dc:language>en-US</dc:language>
  <cp:lastModifiedBy>fhsstudent</cp:lastModifiedBy>
  <dcterms:modified xsi:type="dcterms:W3CDTF">2009-09-25T19:02:22Z</dcterms:modified>
  <cp:revision>4</cp:revision>
  <dc:subject/>
  <dc:title>The University of Alabama</dc:title>
</cp:coreProperties>
</file>